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44D9-690B-48F9-836D-BE27CFB6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EA069-0C70-4632-B393-94BCC21E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DA31-8718-4C5E-B42B-43C8F5FEE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1C64-E577-420A-99F0-2656D40B0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54422-E7C2-4F73-A4FD-4F72E9677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7BB26-4E6C-4B7A-AF5C-40EB16510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7D2D-5916-4ECD-8215-6F54CC26D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B4A84-484A-4887-876D-CC6CDD20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F4422-B831-4191-91A0-0CBED5D9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22095-A78B-4571-8D9D-89C01F6A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D513-3751-4F28-9130-452FF8E76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05D4-B3CD-4932-9811-0FA5EE28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2E9E-086B-440E-83E8-E1EBEDE4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D9A3-AE3A-4FB3-98F9-7CAE4A520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2BCE-6FFA-49A0-BC90-FC27CFB46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7D70-52B8-4913-ACAF-176E7430A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B9B9E-9C69-4D14-BC98-E2E04B4DF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AB8-A4BC-40A6-8E19-AF527128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3D8C-5364-46AA-8012-BED007C0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3006-EB28-4A6D-91C7-45D61118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DFF8-2311-4608-BC9E-B02CD785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F778-3F76-48B0-99CD-86DA3F5A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1D16-9EBA-4817-A54A-81D216F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7100-C200-4392-BEAD-1FDB27521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E38BB-BB8D-4BA5-8231-0AB4B3301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4FDD-ED86-4973-8299-684C188CA6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5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5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5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5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5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5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5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5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5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13.xml"/><Relationship Id="rId4" Type="http://schemas.openxmlformats.org/officeDocument/2006/relationships/slide" Target="slide20.xml"/><Relationship Id="rId5" Type="http://schemas.openxmlformats.org/officeDocument/2006/relationships/slide" Target="slide27.xml"/><Relationship Id="rId6" Type="http://schemas.openxmlformats.org/officeDocument/2006/relationships/slide" Target="slide34.xml"/><Relationship Id="rId7" Type="http://schemas.openxmlformats.org/officeDocument/2006/relationships/slide" Target="slide4.xml"/><Relationship Id="rId8" Type="http://schemas.openxmlformats.org/officeDocument/2006/relationships/slide" Target="slide9.xml"/><Relationship Id="rId9" Type="http://schemas.openxmlformats.org/officeDocument/2006/relationships/slide" Target="slide14.xml"/><Relationship Id="rId10" Type="http://schemas.openxmlformats.org/officeDocument/2006/relationships/slide" Target="slide21.xml"/><Relationship Id="rId11" Type="http://schemas.openxmlformats.org/officeDocument/2006/relationships/slide" Target="slide28.xml"/><Relationship Id="rId12" Type="http://schemas.openxmlformats.org/officeDocument/2006/relationships/slide" Target="slide35.xml"/><Relationship Id="rId13" Type="http://schemas.openxmlformats.org/officeDocument/2006/relationships/slide" Target="slide41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2.xml"/><Relationship Id="rId18" Type="http://schemas.openxmlformats.org/officeDocument/2006/relationships/slide" Target="slide29.xml"/><Relationship Id="rId19" Type="http://schemas.openxmlformats.org/officeDocument/2006/relationships/slide" Target="slide36.xml"/><Relationship Id="rId20" Type="http://schemas.openxmlformats.org/officeDocument/2006/relationships/slide" Target="slide6.xml"/><Relationship Id="rId21" Type="http://schemas.openxmlformats.org/officeDocument/2006/relationships/slide" Target="slide11.xml"/><Relationship Id="rId22" Type="http://schemas.openxmlformats.org/officeDocument/2006/relationships/slide" Target="slide16.xml"/><Relationship Id="rId23" Type="http://schemas.openxmlformats.org/officeDocument/2006/relationships/slide" Target="slide23.xml"/><Relationship Id="rId24" Type="http://schemas.openxmlformats.org/officeDocument/2006/relationships/slide" Target="slide30.xml"/><Relationship Id="rId25" Type="http://schemas.openxmlformats.org/officeDocument/2006/relationships/slide" Target="slide37.xml"/><Relationship Id="rId26" Type="http://schemas.openxmlformats.org/officeDocument/2006/relationships/slide" Target="slide42.xml"/><Relationship Id="rId27" Type="http://schemas.openxmlformats.org/officeDocument/2006/relationships/slide" Target="slide7.xml"/><Relationship Id="rId28" Type="http://schemas.openxmlformats.org/officeDocument/2006/relationships/slide" Target="slide12.xml"/><Relationship Id="rId29" Type="http://schemas.openxmlformats.org/officeDocument/2006/relationships/slide" Target="slide17.xml"/><Relationship Id="rId30" Type="http://schemas.openxmlformats.org/officeDocument/2006/relationships/slide" Target="slide24.xml"/><Relationship Id="rId31" Type="http://schemas.openxmlformats.org/officeDocument/2006/relationships/slide" Target="slide31.xml"/><Relationship Id="rId32" Type="http://schemas.openxmlformats.org/officeDocument/2006/relationships/slide" Target="slide38.xml"/><Relationship Id="rId33" Type="http://schemas.openxmlformats.org/officeDocument/2006/relationships/slide" Target="slide18.xml"/><Relationship Id="rId34" Type="http://schemas.openxmlformats.org/officeDocument/2006/relationships/slide" Target="slide25.xml"/><Relationship Id="rId35" Type="http://schemas.openxmlformats.org/officeDocument/2006/relationships/slide" Target="slide32.xml"/><Relationship Id="rId36" Type="http://schemas.openxmlformats.org/officeDocument/2006/relationships/slide" Target="slide39.xml"/><Relationship Id="rId37" Type="http://schemas.openxmlformats.org/officeDocument/2006/relationships/slide" Target="slide19.xml"/><Relationship Id="rId38" Type="http://schemas.openxmlformats.org/officeDocument/2006/relationships/slide" Target="slide26.xml"/><Relationship Id="rId39" Type="http://schemas.openxmlformats.org/officeDocument/2006/relationships/slide" Target="slide33.xml"/><Relationship Id="rId40" Type="http://schemas.openxmlformats.org/officeDocument/2006/relationships/slide" Target="slide40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6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6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6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6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6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6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6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6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70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71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7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73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7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7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6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7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8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9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Reading &amp; Writing Terms to K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utierrez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a looked clear as a bell the day we went sail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4343400" y="5943600"/>
            <a:ext cx="29718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6400800" y="5867280"/>
            <a:ext cx="1600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4419720" y="5791320"/>
            <a:ext cx="44956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400800" y="6019920"/>
            <a:ext cx="27432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conversation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743200" y="6019920"/>
            <a:ext cx="51814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ting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Text Box 4"/>
          <p:cNvSpPr/>
          <p:nvPr/>
        </p:nvSpPr>
        <p:spPr>
          <a:xfrm>
            <a:off x="0" y="1143000"/>
            <a:ext cx="8915400" cy="64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" action="ppaction://hlinksldjump"/>
              </a:rPr>
              <a:t>1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" action="ppaction://hlinksldjump"/>
              </a:rPr>
              <a:t>1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5" action="ppaction://hlinksldjump"/>
              </a:rPr>
              <a:t>2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6" action="ppaction://hlinksldjump"/>
              </a:rPr>
              <a:t>#32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7" action="ppaction://hlinksldjump"/>
              </a:rPr>
              <a:t>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8" action="ppaction://hlinksldjump"/>
              </a:rPr>
              <a:t>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9" action="ppaction://hlinksldjump"/>
              </a:rPr>
              <a:t>1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0" action="ppaction://hlinksldjump"/>
              </a:rPr>
              <a:t>1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1" action="ppaction://hlinksldjump"/>
              </a:rPr>
              <a:t>2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2" action="ppaction://hlinksldjump"/>
              </a:rPr>
              <a:t>3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3" action="ppaction://hlinksldjump"/>
              </a:rPr>
              <a:t>#39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4" action="ppaction://hlinksldjump"/>
              </a:rPr>
              <a:t>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5" action="ppaction://hlinksldjump"/>
              </a:rPr>
              <a:t>8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6" action="ppaction://hlinksldjump"/>
              </a:rPr>
              <a:t>13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7" action="ppaction://hlinksldjump"/>
              </a:rPr>
              <a:t>2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8" action="ppaction://hlinksldjump"/>
              </a:rPr>
              <a:t>2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9" action="ppaction://hlinksldjump"/>
              </a:rPr>
              <a:t>#34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0" action="ppaction://hlinksldjump"/>
              </a:rPr>
              <a:t>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1" action="ppaction://hlinksldjump"/>
              </a:rPr>
              <a:t>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2" action="ppaction://hlinksldjump"/>
              </a:rPr>
              <a:t>1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3" action="ppaction://hlinksldjump"/>
              </a:rPr>
              <a:t>2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4" action="ppaction://hlinksldjump"/>
              </a:rPr>
              <a:t>28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5" action="ppaction://hlinksldjump"/>
              </a:rPr>
              <a:t>3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6" action="ppaction://hlinksldjump"/>
              </a:rPr>
              <a:t>#40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7" action="ppaction://hlinksldjump"/>
              </a:rPr>
              <a:t>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8" action="ppaction://hlinksldjump"/>
              </a:rPr>
              <a:t>10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9" action="ppaction://hlinksldjump"/>
              </a:rPr>
              <a:t>15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0" action="ppaction://hlinksldjump"/>
              </a:rPr>
              <a:t>22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1" action="ppaction://hlinksldjump"/>
              </a:rPr>
              <a:t>29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2" action="ppaction://hlinksldjump"/>
              </a:rPr>
              <a:t>#3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3" action="ppaction://hlinksldjump"/>
              </a:rPr>
              <a:t>16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4" action="ppaction://hlinksldjump"/>
              </a:rPr>
              <a:t>23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5" action="ppaction://hlinksldjump"/>
              </a:rPr>
              <a:t>30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6" action="ppaction://hlinksldjump"/>
              </a:rPr>
              <a:t>#37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7" action="ppaction://hlinksldjump"/>
              </a:rPr>
              <a:t>17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8" action="ppaction://hlinksldjump"/>
              </a:rPr>
              <a:t>24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#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39" action="ppaction://hlinksldjump"/>
              </a:rPr>
              <a:t>31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40" action="ppaction://hlinksldjump"/>
              </a:rPr>
              <a:t>#38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209680" y="304920"/>
            <a:ext cx="472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iz 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-5972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hort non-fiction work that deals with one subject.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6629400" y="5867280"/>
            <a:ext cx="21337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-591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1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middle.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simi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 metaphor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hyperbol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Give 4 examples of common conflicts found in literature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an original example of alliteration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mp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ad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am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if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ying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      </a:t>
            </a:r>
            <a:r>
              <a:rPr b="0" lang="en-US" sz="24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plot outline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Line 4"/>
          <p:cNvSpPr/>
          <p:nvPr/>
        </p:nvSpPr>
        <p:spPr>
          <a:xfrm>
            <a:off x="1219320" y="4952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Line 5"/>
          <p:cNvSpPr/>
          <p:nvPr/>
        </p:nvSpPr>
        <p:spPr>
          <a:xfrm flipV="1">
            <a:off x="2743200" y="3581280"/>
            <a:ext cx="160020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Line 6"/>
          <p:cNvSpPr/>
          <p:nvPr/>
        </p:nvSpPr>
        <p:spPr>
          <a:xfrm>
            <a:off x="4343400" y="3581280"/>
            <a:ext cx="9144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52578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533520" y="4038480"/>
            <a:ext cx="10666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Line 9"/>
          <p:cNvSpPr/>
          <p:nvPr/>
        </p:nvSpPr>
        <p:spPr>
          <a:xfrm flipH="1" flipV="1">
            <a:off x="3352320" y="44956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Line 10"/>
          <p:cNvSpPr/>
          <p:nvPr/>
        </p:nvSpPr>
        <p:spPr>
          <a:xfrm flipV="1">
            <a:off x="4495680" y="441936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Line 11"/>
          <p:cNvSpPr/>
          <p:nvPr/>
        </p:nvSpPr>
        <p:spPr>
          <a:xfrm flipH="1">
            <a:off x="6171840" y="3733920"/>
            <a:ext cx="7621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358128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Line 13"/>
          <p:cNvSpPr/>
          <p:nvPr/>
        </p:nvSpPr>
        <p:spPr>
          <a:xfrm flipH="1">
            <a:off x="4648320" y="259092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4"/>
          <p:cNvSpPr/>
          <p:nvPr/>
        </p:nvSpPr>
        <p:spPr>
          <a:xfrm>
            <a:off x="3505320" y="3048120"/>
            <a:ext cx="1463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5638680" y="5486400"/>
            <a:ext cx="19814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me two short stories that we’ve read this year and state their them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is 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tanz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surprise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group of lines that form a unit in a po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comparison of two th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petition of initial consonant sounds in a line of poetr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 a figure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gives animals and ideas human quali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that have something in comm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ich compares two things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ich compares two things not using “like” or “as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Mai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that compares two thing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using the words “like” or “as”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taph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6248520" y="5715000"/>
            <a:ext cx="2514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imi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fe is just a bowl of cherri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ea looked clear as a bell the day we went sail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ittany thinks Bob is a stuffed shir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dice is so skinny she has to run around in the shower to get w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utobiograph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story of someone’s life written by them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written by someone els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ctitious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iograph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written by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story of someone’s life written by someone el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story of someone’s life based on l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fictitious story.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we read a story,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climax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conclus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turning point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esolu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ntroduction of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alogu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a story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at the character is think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 conversation between charac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ything that does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have quotation marks around 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quence of events in a story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e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eshadowing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mmar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alogue between characters in a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plot out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retelling of the story including the title, author and type of literatur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roblem or struggle in the stor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fer to time, place, mood or atmosphere in a work of literature, we are referring t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us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etting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vel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an extended (long) work of 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xtended (long) work of non-fic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myth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short stori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hem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of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riter’s attitude toward the subjec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universal message about life or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special way a writer reveals his ideas. 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an exaggeration is used for emphasis or humor is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ron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nsory imag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mbolism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553080" y="5486400"/>
            <a:ext cx="1371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arrator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erson telling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ain character in the sto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that the story is ab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bad gu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1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ssay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long paper that deals with several subject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ways fiction and can be any lengt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really boring paper that you write in schoo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 short non-fiction work that deals with one subjec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part of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writing proces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-writing/brainstorm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diting/revis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copy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ough draf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al draft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is not 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reading strategy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ec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Edi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ferencing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literature,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based on real things that have actually happene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Non-Fict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riting that deals with real people, events and places without changing any fac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4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fac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s something tha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False  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opinion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merely something that someone thinks.  It cannot be prov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            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topic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usually t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a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first sentence in a paragrap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least important sentence in a paragraph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585000" indent="-5850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etails/support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 go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 the 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the begin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owhere, they aren’t necessary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in the middle.                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5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peat consonant sounds at the beginning of two or more words in literature it is calle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sson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no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6400800" y="5638680"/>
            <a:ext cx="20574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cluding sentence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paragraph shoul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be the la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the first sentenc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in the middl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e off-topi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29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main idea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s what a paragraph or passage is about overal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l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conflic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in a work of literature i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time, place or moo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dialogue between charact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he problem or struggle for the main charact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message about life and being huma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ut the following words in alphabetical order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am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mp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estif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ad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rying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38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Rectangle 4"/>
          <p:cNvSpPr/>
          <p:nvPr/>
        </p:nvSpPr>
        <p:spPr>
          <a:xfrm>
            <a:off x="838080" y="2697120"/>
            <a:ext cx="6019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rite down 3 important parts to every paragraph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Topic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Supporting detai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Concluding sentenc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                         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40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st 4 references (dictionary, thesaurus, etc.) that we’ve learned about this year and tell what you can find in eac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Dictionary – word spellings, part of speech, pronunciations, defini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Thesaurus – words, synonyms, antony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tlas – maps of the wor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Encyclopedia – A comprehensive reference work containing articles on a wide range of subjects or on numerous aspects of a particular field, usually arranged alphabetical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                                                             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following is an example of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ific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imothy is a rat for telling on Su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y brother drives like a maniac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dirty dishes stared at me from the sin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-572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h’s eyes are like twinkling stars.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572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 #7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6960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figure of speech in which the sound of the word is suggestive of its mea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yperbol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iale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3360" indent="-603360">
              <a:spcBef>
                <a:spcPts val="799"/>
              </a:spcBef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oom                                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6553080" y="6019920"/>
            <a:ext cx="1905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M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med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6:44:54Z</dcterms:created>
  <dc:creator>cgutierrez</dc:creator>
  <dc:description/>
  <dc:language>en-US</dc:language>
  <cp:lastModifiedBy>Mr. Zoubek</cp:lastModifiedBy>
  <dcterms:modified xsi:type="dcterms:W3CDTF">2012-12-12T20:23:35Z</dcterms:modified>
  <cp:revision>19</cp:revision>
  <dc:subject/>
  <dc:title>Reading &amp; Writing Terms to Know</dc:title>
</cp:coreProperties>
</file>